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249988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2496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1800" y="0"/>
            <a:ext cx="2708280" cy="47952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539880" y="0"/>
            <a:ext cx="2708280" cy="47952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  <a:defRPr b="0" i="1" lang="tr-TR" sz="1000" spc="-1" strike="noStrike">
                <a:solidFill>
                  <a:srgbClr val="000000"/>
                </a:solidFill>
                <a:latin typeface="Arial Tu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D2332E9E-262E-4CF5-A775-4420FD34753A}" type="datetime">
              <a:rPr b="0" i="1" lang="tr-TR" sz="1000" spc="-1" strike="noStrike">
                <a:solidFill>
                  <a:srgbClr val="000000"/>
                </a:solidFill>
                <a:latin typeface="Arial Tur"/>
              </a:rPr>
              <a:t>31.07.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731880" y="728640"/>
            <a:ext cx="4782960" cy="358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 Tur"/>
              </a:rPr>
              <a:t>Click to move the slide</a:t>
            </a: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833400" y="4559040"/>
            <a:ext cx="4579920" cy="43210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Tur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Tur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1800" y="9121680"/>
            <a:ext cx="2708280" cy="47952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539880" y="9121680"/>
            <a:ext cx="2708280" cy="47952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  <a:defRPr b="0" i="1" lang="tr-TR" sz="1000" spc="-1" strike="noStrike">
                <a:solidFill>
                  <a:srgbClr val="000000"/>
                </a:solidFill>
                <a:latin typeface="Arial Tu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F035E8CA-80A8-4AF7-B36D-5DDF968C23B9}" type="slidenum">
              <a:rPr b="0" i="1" lang="tr-TR" sz="1000" spc="-1" strike="noStrike">
                <a:solidFill>
                  <a:srgbClr val="000000"/>
                </a:solidFill>
                <a:latin typeface="Arial Tur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1952640" y="730080"/>
            <a:ext cx="2343240" cy="36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624960" y="4560480"/>
            <a:ext cx="49928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Tur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540240" y="9121680"/>
            <a:ext cx="27082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DA85A6D6-504E-45EA-81CC-6FCAE4C624C1}" type="slidenum">
              <a:rPr b="0" i="1" lang="tr-TR" sz="1000" spc="-1" strike="noStrike">
                <a:solidFill>
                  <a:srgbClr val="ffffff"/>
                </a:solidFill>
                <a:latin typeface="Arial Tur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731880" y="728640"/>
            <a:ext cx="4782960" cy="35863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833400" y="4559040"/>
            <a:ext cx="45799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Tur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3082-2FD3-459F-ADE4-AC48D45CB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0484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0484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C0D3-026B-46FD-AE1C-EA87D3CB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04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75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04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75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1FC0-6A3D-47F0-B728-E4F26C019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048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328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604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048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328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604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15DB-2D47-4B31-9817-AABE3DAB0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CC77-2977-4A0A-8F85-E061A3EC6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0484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E888-0788-48E9-A2BC-B18D8FE3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0484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AF1D-243D-4819-803E-BB5AB16E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04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75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CBE3-787E-4FC0-BD43-4663A270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A0A8-9235-4ABF-A159-047B82D0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048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2901-3405-4F0F-A9FB-E4A66559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04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875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04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0141-BEA3-4053-9F8E-B622B82E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0484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027D-A6B9-455D-9547-AD23BA8E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04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875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875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69BF-811F-4EAE-9982-E8FCF20C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04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875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0484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D6D1-74AB-42B5-BC61-3FB6C641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0484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0484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3F73-53E5-4288-BA3E-B9D33912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04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75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04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875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5E09-5BAF-4372-975D-EC46B2AC9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048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328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604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048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328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604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8F18-7CA7-469E-8574-79151AFF4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0484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92E5-52BE-42B0-A86D-4BFAC484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04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75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ABE7-651F-42AF-86BB-18ED4DA2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1EED-1048-4070-8808-80CF4CED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048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2F41-BAE2-47F9-8CB7-B3EDC24C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04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75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04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628B-C250-46F3-80D5-10D306D3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04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75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75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17CC-3C95-4147-AD67-96643D9A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04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75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0484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BDA8-43B6-4D2F-B593-ADDDC7E6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e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 Tur"/>
              </a:rPr>
              <a:t>Click to edit the title text format</a:t>
            </a: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0484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Tur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Tur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Tur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lvl="3" marL="1546200" indent="-226080">
              <a:spcBef>
                <a:spcPts val="799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Tur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lvl="4" marL="1960920" indent="-226080">
              <a:spcBef>
                <a:spcPts val="799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Tur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lvl="5" marL="19609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Tur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lvl="6" marL="19609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Tur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 Tu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682B-30C9-4029-AE98-A16C4B032EEF}" type="slidenum">
              <a:rPr b="0" lang="tr-TR" sz="1400" spc="-1" strike="noStrike">
                <a:solidFill>
                  <a:srgbClr val="000000"/>
                </a:solidFill>
                <a:latin typeface="Arial Tur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Object 2"/>
          <p:cNvGraphicFramePr/>
          <p:nvPr/>
        </p:nvGraphicFramePr>
        <p:xfrm>
          <a:off x="131760" y="225360"/>
          <a:ext cx="888840" cy="119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1760" y="225360"/>
                    <a:ext cx="888840" cy="11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e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 Tur"/>
              </a:rPr>
              <a:t>Click to edit the title text format</a:t>
            </a: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0484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Tur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Tur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Tur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lvl="3" marL="1546200" indent="-226080">
              <a:spcBef>
                <a:spcPts val="799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Tur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lvl="4" marL="1960920" indent="-226080">
              <a:spcBef>
                <a:spcPts val="799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Tur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lvl="5" marL="19609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Tur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lvl="6" marL="19609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Tur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Arial Tu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F4C6-1DD0-4EB1-BAE6-DE7DA3AE6ABE}" type="slidenum">
              <a:rPr b="0" lang="tr-TR" sz="1400" spc="-1" strike="noStrike">
                <a:solidFill>
                  <a:srgbClr val="ffffff"/>
                </a:solidFill>
                <a:latin typeface="Arial Tur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5680" y="2131920"/>
            <a:ext cx="8448480" cy="17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Arial Tur"/>
                <a:ea typeface="Arial Tur"/>
              </a:rPr>
              <a:t>Pelvic Sectional Anatomy and Imaging Technique</a:t>
            </a:r>
            <a:endParaRPr b="1" lang="en-US" sz="28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68000" y="4014720"/>
            <a:ext cx="8280360" cy="31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 Tur"/>
                <a:ea typeface="Arial Tur"/>
              </a:rPr>
              <a:t>Alp Dincer, M.D</a:t>
            </a:r>
            <a:endParaRPr b="0" lang="en-US" sz="1800" spc="-1" strike="noStrike">
              <a:solidFill>
                <a:srgbClr val="ffff00"/>
              </a:solidFill>
              <a:latin typeface="Arial Tur"/>
            </a:endParaRPr>
          </a:p>
          <a:p>
            <a:pPr lvl="1"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6600"/>
                </a:solidFill>
                <a:latin typeface="Arial Tur"/>
              </a:rPr>
              <a:t>Acıbadem University, School of Medicine,</a:t>
            </a:r>
            <a:endParaRPr b="0" lang="en-US" sz="1800" spc="-1" strike="noStrike">
              <a:solidFill>
                <a:srgbClr val="ffff00"/>
              </a:solidFill>
              <a:latin typeface="Arial Tur"/>
            </a:endParaRPr>
          </a:p>
          <a:p>
            <a:pPr lvl="1"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6600"/>
                </a:solidFill>
                <a:latin typeface="Arial Tur"/>
              </a:rPr>
              <a:t>Department of Radiology</a:t>
            </a:r>
            <a:endParaRPr b="0" lang="en-US" sz="1800" spc="-1" strike="noStrike">
              <a:solidFill>
                <a:srgbClr val="ffff00"/>
              </a:solidFill>
              <a:latin typeface="Arial Tur"/>
            </a:endParaRPr>
          </a:p>
          <a:p>
            <a:pPr lvl="1"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6600"/>
                </a:solidFill>
                <a:latin typeface="Arial Tur"/>
              </a:rPr>
              <a:t>Acıbadem Altunizde Hospital, İstanbul</a:t>
            </a:r>
            <a:endParaRPr b="0" lang="en-US" sz="1800" spc="-1" strike="noStrike">
              <a:solidFill>
                <a:srgbClr val="ffff00"/>
              </a:solidFill>
              <a:latin typeface="Arial Tur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Arial Tur"/>
              </a:rPr>
              <a:t>intro</a:t>
            </a:r>
            <a:endParaRPr b="1" lang="en-US" sz="32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026800"/>
            <a:ext cx="8229600" cy="307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 Tur"/>
              </a:rPr>
              <a:t>Imaging Technique</a:t>
            </a:r>
            <a:endParaRPr b="0" lang="en-US" sz="2400" spc="-1" strike="noStrike">
              <a:solidFill>
                <a:srgbClr val="ffff00"/>
              </a:solidFill>
              <a:latin typeface="Arial Tur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 Tur"/>
              </a:rPr>
              <a:t>Sectional Anatomy</a:t>
            </a:r>
            <a:r>
              <a:rPr b="0" lang="en-US" sz="2400" spc="-1" strike="noStrike">
                <a:solidFill>
                  <a:srgbClr val="ffff00"/>
                </a:solidFill>
                <a:latin typeface="Arial Tur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 Tur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ffff"/>
                </a:solidFill>
                <a:latin typeface="Arial Tur"/>
              </a:rPr>
              <a:t>Aim</a:t>
            </a: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10484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To demonstarte pelvic anatomy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To reveal or r/o possible cause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ffff"/>
                </a:solidFill>
                <a:latin typeface="Arial Tur"/>
              </a:rPr>
              <a:t>imaging modalities</a:t>
            </a:r>
            <a:endParaRPr b="1" lang="en-US" sz="32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10484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 Tur"/>
              </a:rPr>
              <a:t>X-Ray</a:t>
            </a:r>
            <a:endParaRPr b="0" lang="en-US" sz="2400" spc="-1" strike="noStrike">
              <a:solidFill>
                <a:srgbClr val="ffff00"/>
              </a:solidFill>
              <a:latin typeface="Arial Tur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 Tur"/>
              </a:rPr>
              <a:t>US</a:t>
            </a:r>
            <a:endParaRPr b="0" lang="en-US" sz="2400" spc="-1" strike="noStrike">
              <a:solidFill>
                <a:srgbClr val="ffff00"/>
              </a:solidFill>
              <a:latin typeface="Arial Tur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 Tur"/>
              </a:rPr>
              <a:t>CT</a:t>
            </a:r>
            <a:endParaRPr b="0" lang="en-US" sz="2400" spc="-1" strike="noStrike">
              <a:solidFill>
                <a:srgbClr val="ffff00"/>
              </a:solidFill>
              <a:latin typeface="Arial Tur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 Tur"/>
              </a:rPr>
              <a:t>DSA</a:t>
            </a:r>
            <a:endParaRPr b="0" lang="en-US" sz="2400" spc="-1" strike="noStrike">
              <a:solidFill>
                <a:srgbClr val="ffff00"/>
              </a:solidFill>
              <a:latin typeface="Arial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00"/>
                </a:solidFill>
                <a:latin typeface="Arial Tur"/>
              </a:rPr>
              <a:t>MRA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ffff"/>
                </a:solidFill>
                <a:latin typeface="Arial Tur"/>
              </a:rPr>
              <a:t>MRI</a:t>
            </a: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0484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Standardisation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Aim: 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demonstarion of genitourinal soft tissues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pelvic bones and muscles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vascular stuctures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nerves and plexus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ffff"/>
                </a:solidFill>
                <a:latin typeface="Arial Tur"/>
              </a:rPr>
              <a:t>MR protocol</a:t>
            </a: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0484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Array coil, if needed intravaginal or rectal coil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3T ?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High resolution standard 2D and 3D T1W/T2W w/o fat-sat or Dixon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DWI 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Volumetric PD, STIR and T1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Dynamic volumetric T1 studies (arterial, venous and delayed)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ffff"/>
                </a:solidFill>
                <a:latin typeface="Arial Tur"/>
              </a:rPr>
              <a:t>DWI-DTI</a:t>
            </a: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10484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High resolution 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At least 6 direction for DTI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ffff"/>
                </a:solidFill>
                <a:latin typeface="Arial Tur"/>
              </a:rPr>
              <a:t>3T MR Neurography </a:t>
            </a: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0484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Lumbar Plexus: L1-L5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Sacral Plexus: L4-S4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Lumbosacral Plexus: L2-S4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3D SPACE STIR and/or PD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Muliplanar volüm reconstruction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MIP reconstruction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0:40:43Z</dcterms:created>
  <dc:creator>MUMİN</dc:creator>
  <dc:description/>
  <dc:language>en-US</dc:language>
  <cp:lastModifiedBy>Alp Dinçer</cp:lastModifiedBy>
  <cp:lastPrinted>1999-05-25T12:26:34Z</cp:lastPrinted>
  <dcterms:modified xsi:type="dcterms:W3CDTF">2018-04-20T10:51:48Z</dcterms:modified>
  <cp:revision>258</cp:revision>
  <dc:subject/>
  <dc:title>Slayt Başlığı Yok</dc:title>
</cp:coreProperties>
</file>